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605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  <a:p>
            <a:pPr lvl="1" marL="438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7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6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5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34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Times New Roman"/>
              </a:rPr>
              <a:t>扬起自信的风帆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621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自信是成功的基石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隶书"/>
              </a:rPr>
              <a:t>二、自信有助于成功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</a:rPr>
              <a:t>自信是一个人成功的基础，这是因为自信者的心理品质有助于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5715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67080" y="20570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乒乓球女子世界杯昨晚落幕，冠军是王楠。一个刚刚在国际乒联职业巡回赛总决赛中失利的选手。赛前没人看好她能夺冠，但笑到最后的恰恰是这位老将。半决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赢了张怡宁，决赛赢了职业巡回赛新科女单冠军牛剑锋。连王楠自己都说：“这次比赛前我特别消极，觉得自己好象不太会打球了，这个冠军让我找回状态，找回自信。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4043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50292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去悉尼之前，有记者问杨霞：“第一次参加奥运会，你怕不怕？”杨霞摇摇头，轻轻一笑：“不怕，我对自己有信心。”果然，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的比赛中，杨霞一举拿下了女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斤级金牌，并打破了抓、挺、总成绩三项世界纪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467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拥有乐观的心态，就会使人在面对问题和失败的时候，不轻言放弃，会想方设法创造成功的条件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6248160" cy="5011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乐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5181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好奇心会推动人不断努力，在自己喜欢的领域取得成绩，而且会使人更注重自己解决问题的能力。成功后的荣誉与奖励对他们来说却无足轻重。比如，爱因斯坦把奖金支票当书签，居里夫人把荣誉奖章给孩子当玩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048120"/>
            <a:ext cx="3810240" cy="351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62720" y="228600"/>
            <a:ext cx="331632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248520" y="5410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好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3962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华罗庚酷爱数学。小时候不能上学，就自己想办法学。一次，他向一位老师借来了几本数学书，一看，便着了魔。从此，他一边做生意、算帐，一边学数学。有时看书入了神，人家买东西他也忘了招呼。傍晚，店铺关门以后，他更是一心一意地在数学王国里尽情漫游。一年到头，差不多每天都要花十几个小时，钻研那些借来的数学书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95680" y="2562120"/>
            <a:ext cx="4267440" cy="3829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05520" y="1600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专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艾米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勃朗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利用每一分每一秒，一个心思看书，琢磨，就这样看了许多好书。后来，她开始写作。经过不懈的努力，她终于写出了一部文明世界的作品——《呼啸山庄》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495680" cy="3162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27640" y="228600"/>
            <a:ext cx="3483000" cy="4267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638680" y="5486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专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90a8"/>
                </a:solidFill>
                <a:latin typeface="华文彩云"/>
                <a:ea typeface="华文彩云"/>
              </a:rPr>
              <a:t>自信心是推动人们不断上进的动力。自信是人的立身之本，是一个人成功的基础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307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04920"/>
            <a:ext cx="518184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90a8"/>
                </a:solidFill>
                <a:latin typeface="华文隶书"/>
                <a:ea typeface="华文隶书"/>
              </a:rPr>
              <a:t>将进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君不见黄河之水天上来，奔流到海不复回。君不见高堂明镜悲白发，朝如青丝暮成雪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人生得意须尽欢，莫使金樽空对月。天生我材必有用，千金散尽还复来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烹羊宰牛且为乐，会须一饮三百杯。岑夫子、丹丘生：将进酒，杯莫停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与君歌一曲，请君为我侧耳听。钟鼓馔玉不足贵，但愿长醉不愿醒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古来圣贤皆寂寞，唯有饮者留其名。陈王昔时宴平乐，斗酒十千恣欢谑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主人何为言少钱，径须沽取对君酌。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五花马，千金裘，呼儿将出换美酒，与尔同销万古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886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宋体"/>
                <a:ea typeface="华文楷体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5486400" cy="478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9920" y="1295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邓亚萍说：我自信，我成功。凭着这种精神，她在世界大赛中屡克强敌，即使在比分落后时也能镇定自若，信心百倍，反败为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华文隶书"/>
              </a:rPr>
              <a:t>一、“一对孪生子”共有的心态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</a:rPr>
              <a:t>自负与自卑是一对孪生子，二者都是以自我为中心。就像一根潮湿的火柴，自负和自卑的人永远也无法燃起成功的火焰。古今中外的无数事实说明，许多失败都与自负或自卑有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800520" cy="457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876920" y="228600"/>
            <a:ext cx="3841560" cy="449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495288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秦末农民起义军领袖项羽，自封为西楚霸王，未坐定江山便大封诸候颇有秦始皇“普天之下莫非王土，率土之滨莫非王臣”的气概，忽视汉王刘邦的力量，终为其击败，最后从垓下突围到乌江，自刎江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05240" cy="6324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886200" y="228600"/>
            <a:ext cx="4876920" cy="361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57600" y="4114800"/>
            <a:ext cx="525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羽因自负而失荆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马谡因自负而失街亭。有人说： “自负，像一个泥潭陷进去了就难以自拔。”的确，自负者是很“恋旧”的，他经常沉缅于往日极少的胜利之中，故而不听他人的意见，最终因为自负成为了自己人生的绊脚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03600" cy="3733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41911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兰西第一帝国的缔造者，拿破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波拿巴；据说他在一次过阿尔卑斯山时说“我比阿尔卑斯山还要高，”傲气十足何等英伟！的确，他帅兵一度降服大半个欧洲，使法国资本主义得到充分的发展，但他的自负使之对外侵略扩张的欲望日益强烈，终于发动了以争霸，掠夺和奴役别国为目的的侵略战争，正是这分自负使他有了最后滑铁卢战役的失败，被流放而死在了圣赫勒拿岛。他曾经拥有许多最终却失去了一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724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2741760" cy="3229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4572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佛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富勒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须德是费城《告示报》的编辑。有一次，他在大学毕业班讲演，他忽然朝着大家问道：“有多少人锯过木头？ 请举手。”大多数学生都曾经锯过木头。接着，他又问：“有多少人曾经锯过木屑？”这回，全场愕然，也是全场哑然，没有一个举手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“当然，你们不可能去锯木屑，”须德先生说，“因为木屑是已经锯下来了的。过去了的事情也一样，当你为那些已经做过的事情忧虑重重时，你只不过是在锯木屑而已。” 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</a:rPr>
              <a:t>　　牛奶瓶碎了，不能再把牛奶救回来；磨完的粉子，不能再磨；锯木头剩下的木屑，不能再锯。不要为这些损失而悲伤，高兴地找出办法来弥补自己的创伤吧。</a:t>
            </a:r>
            <a:r>
              <a:rPr b="0" lang="zh-CN" sz="2400" spc="-1" strike="noStrike">
                <a:solidFill>
                  <a:srgbClr val="5490a8"/>
                </a:solidFill>
                <a:latin typeface="宋体"/>
                <a:ea typeface="Times New Roman"/>
              </a:rPr>
              <a:t>如果你想在忧虑征服你以前先征服忧虑，这便是你最后一点应该注意的。切切不要忘了： </a:t>
            </a:r>
            <a:br>
              <a:rPr sz="2400"/>
            </a:br>
            <a:r>
              <a:rPr b="0" lang="zh-CN" sz="2400" spc="-1" strike="noStrike">
                <a:solidFill>
                  <a:srgbClr val="5490a8"/>
                </a:solidFill>
                <a:latin typeface="宋体"/>
                <a:ea typeface="Times New Roman"/>
              </a:rPr>
              <a:t>　　不要去锯木屑。不要自卑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8:58:3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0:32Z</dcterms:modified>
  <cp:revision>10</cp:revision>
  <dc:subject>主题班会课件(分28大类): http://shop62905894.taobao.com</dc:subject>
  <dc:title>主题班会课件(分28大类): http://shop62905894.taobao.com</dc:title>
</cp:coreProperties>
</file>